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D5D0-70AF-4894-895E-7CD5A21D7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2B0B-CC60-471D-8708-9BE26E56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C6E5-3902-4C64-81E2-BF36A845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599F-01FA-43BA-A87C-6D164D6A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5D6D-25DE-4B12-A79F-DE605E23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EC22-BA23-4354-8878-DCA0C33F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6B03-C700-405D-B091-E4BEF02C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B889-FD6F-43E6-9F1A-1B31A8CB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4B45-E9FF-4385-A6A0-20704ABC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F990-A04F-44FE-BF09-77596359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8528-1A74-4B8C-9FBF-A8CD94B7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6562-8E01-4CC9-9E39-EAF76059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E9AE-9462-43BC-B92B-D832F111B0D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31F8-DDBF-41AC-AC76-B9635B7AA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624720" cy="64764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2205000"/>
            <a:ext cx="6624720" cy="47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CIÓN DE DIRECTORES/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4797360"/>
            <a:ext cx="2737080" cy="307080"/>
          </a:xfrm>
          <a:prstGeom prst="rect">
            <a:avLst/>
          </a:prstGeom>
          <a:solidFill>
            <a:srgbClr val="fc20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DERICO PÉREZ MORÁ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3429000"/>
            <a:ext cx="777564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Persoal departamento de orientación: gardas, permanencia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17F9-89CB-41A5-A3DE-F00F3FC6299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681C2-513B-46F8-A981-5A9B0E770E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92144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1989000"/>
            <a:ext cx="792144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1. ¿Teñen obriga de facer gardas os profesores/as de PT, AL e os orientadores/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41360"/>
            <a:ext cx="655308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BRIGAS DE FACER  GAR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2924280"/>
            <a:ext cx="7921440" cy="173988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As instrucións da D.X.O.I.E. De 21 de xullo de 2008 establecen que  “o profesorado das especialidades de Pedagoxía Terapéutica, Audición e Linguaxe e o que desempeña a praza de orientación realizarán as gardas que se establezan en función das necesidades organizativas do centro”.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F6F5-F06A-4AE5-82EB-BC41CBE582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67D3A0-D25B-4945-A96D-5C5BA5385E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92144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1989000"/>
            <a:ext cx="792144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2.- ¿Teñen que estar os orientadores no centro nos días de matrícula en xull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1341360"/>
            <a:ext cx="655308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RIENT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2924280"/>
            <a:ext cx="7921440" cy="256284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i="1" lang="gl-ES" sz="1800" spc="-1" strike="noStrike">
                <a:solidFill>
                  <a:srgbClr val="ff3300"/>
                </a:solidFill>
                <a:latin typeface="Arial"/>
              </a:rPr>
              <a:t>No proceso de admisión do alumnado nos centros educativos, a dirección pode necesitar informes específicos que deba realizar o orientador/a. Xustificada esa necesidade, a dirección pode esixir a presenza do orientador/a.... Do mesmo xeito que pode ser requirido calquera outro profesor/a para calquera cuestión da súa responsabilidade....... Posto que o profesorado tan só ten dereito a unha vacacións retribuídas dun mes”.</a:t>
            </a: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gl-ES" sz="1800" spc="-1" strike="noStrike">
                <a:solidFill>
                  <a:srgbClr val="333399"/>
                </a:solidFill>
                <a:latin typeface="Arial"/>
              </a:rPr>
              <a:t>(Instrucións do 22 de Outubro de 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4E03-0E91-4180-A603-869695E64E2A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CD290F-FBC8-4C3C-87CD-AA2F2D5043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92144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1844640"/>
            <a:ext cx="792144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3.- ¿Teñen que estar os orientadores no centro nos días de matrícula en setembr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341360"/>
            <a:ext cx="655308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RIENT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2637000"/>
            <a:ext cx="7921440" cy="119124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Todo o profesorado deberá permanecer nos centros desde o inicio do curso (1 de setembro) ata o 30 de xuño tal e como se recolle na Orde pola que se regula o calendario escolar para cada cur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3933720"/>
            <a:ext cx="792144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4.- ¿Teñen dereito a unha redución os profesores que forman parte do Dpto. de Orientación para a reunión deste órgan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4724280"/>
            <a:ext cx="7921440" cy="146556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gl-ES" sz="1800" spc="-1" strike="noStrike">
                <a:solidFill>
                  <a:srgbClr val="333399"/>
                </a:solidFill>
                <a:latin typeface="Arial"/>
              </a:rPr>
              <a:t>Esa hora debe figurar no horario individual de cada profesor. Computa dentro das horas complementarias fixas. Como queira que todos teñen dereito ás horas de titorías de pais e de alumnos e á de reunión do departamento ao que pertencen, deberá detraerse das horas de gar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CCE2-F257-49F9-8471-4DF00F25D20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7C1FC0-9463-4914-92AA-D577443EE0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92144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1844640"/>
            <a:ext cx="792144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5.- Un centro non ten profesor de PT pero si de AL, ¿debe asumir este as funcións de PT facendo por exemplo reforzos en matemátic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341360"/>
            <a:ext cx="655308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uncións PT / 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2997360"/>
            <a:ext cx="7921440" cy="311148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(Ver funcións do PT no artº 84º do RO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 funcións de calquera especialista son as que lle corresponden á dita especialidade. Unha vez atendidas as necesidades desta deberá completar o seu horario coas actividades que lle fixe o equipo directiv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artº 83 da Orde do 22-7-97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recolle que </a:t>
            </a:r>
            <a:r>
              <a:rPr b="1" i="1" lang="gl-ES" sz="1800" spc="-1" strike="noStrike">
                <a:solidFill>
                  <a:srgbClr val="ff3300"/>
                </a:solidFill>
                <a:latin typeface="Arial"/>
              </a:rPr>
              <a:t>“O alumnado con NEE recibirán atención docente directa por parte dos profesores do grupo no que se integran, coa axuda, se é o caso, do profesorado de apoio na propia aula. Excepcionalmente, en función das ACS establecidas poderanse facer intervencións diferenciadas, debidamente temporalizadas fóra da aul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E55F-FF66-47E5-9E13-9DFB7D3CFD08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C698D-7146-47A4-9DA6-CAFD37B320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92144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1341360"/>
            <a:ext cx="655308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uncións PT / 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2133720"/>
            <a:ext cx="7921440" cy="311148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artº 7º da Orde do 24 de xullo de 1998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que regula a orientación educativa establece as funcións dos PT/AL entre as que fixa a de colaborar na elaboración, seguimento e avaliación das ACS e </a:t>
            </a:r>
            <a:r>
              <a:rPr b="0" lang="gl-ES" sz="1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prestarlle atención directa ao alumnado con NEE que así o requira, atención que, en xeral, se prestará no grupo no que está integrad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O D. 130/07 entende por alumnado con NEE aquel que </a:t>
            </a:r>
            <a:r>
              <a:rPr b="1" i="1" lang="gl-ES" sz="1800" spc="-1" strike="noStrike">
                <a:solidFill>
                  <a:srgbClr val="ff3300"/>
                </a:solidFill>
                <a:latin typeface="Arial"/>
              </a:rPr>
              <a:t>"requira, por un período da súa escolarización ou ao longo de toda ela, determinados apoios e atencións educativas específicas derivadas de discapacidade ou trastornos graves de conduta, tal e como se indica no artigo 73 da LOE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4D1E-432C-47C4-8894-BC1FA18A14DF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CC664B-6936-471D-B096-F5A21F5960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92144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1484280"/>
            <a:ext cx="424800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VALIACIÓN PSICOPEDAGÓX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3573360"/>
            <a:ext cx="8064360" cy="256284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entro debe tomar as medidas necesarias para atender da mellor maneira posible ao alumnado. En consecuencia</a:t>
            </a: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1800" spc="-1" strike="noStrike">
                <a:solidFill>
                  <a:srgbClr val="ff3300"/>
                </a:solidFill>
                <a:latin typeface="Arial"/>
              </a:rPr>
              <a:t>non  é necesaria a conformidade dos pais</a:t>
            </a: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para facer unha avaliación psicopedagóxica nin para tomar unha medida de atención á diversidade. </a:t>
            </a: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O artigo 15 da Orde do 6 de outubro de 1995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pola que se regulan as ACS fixa que </a:t>
            </a:r>
            <a:r>
              <a:rPr b="0" i="1" lang="gl-ES" sz="1800" spc="-1" strike="noStrike">
                <a:solidFill>
                  <a:srgbClr val="000000"/>
                </a:solidFill>
                <a:latin typeface="Arial"/>
              </a:rPr>
              <a:t>“as familias recibirán a información pertinente das decisións adoptadas sobre as mesmas. No caso de desacordo poderán reclamar perante o director ou directora do centro e, de persistir na súa desconformidade, ante a inspección correspondente que deberá resolver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2133720"/>
            <a:ext cx="806436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6.- ¿Pódese negar un pai/nai a que se lle faga unha avaliación   psicopedagóxica ao seu fillo/a aínda que dita avaliación se necesite de forma evidente para aplicar o tratamento máis axeitado no proceso de aprendizaxe do alumno/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30B1-3836-4803-B91D-8C82BE56F55F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3EDE7C-01B6-4F26-B471-F151A916D8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921440" cy="8650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GUNTAS E RESP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1341360"/>
            <a:ext cx="4105080" cy="368280"/>
          </a:xfrm>
          <a:prstGeom prst="rect">
            <a:avLst/>
          </a:prstGeom>
          <a:solidFill>
            <a:srgbClr val="d7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VALIACIÓN PSICOPEDAGÓX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2133720"/>
            <a:ext cx="8137440" cy="2837160"/>
          </a:xfrm>
          <a:prstGeom prst="rect">
            <a:avLst/>
          </a:prstGeom>
          <a:solidFill>
            <a:srgbClr val="e4f8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ampouco é competencia dos pais decidir a escolarización unha vez feito un ditame. Tal e como se recolle no </a:t>
            </a: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artigo 13º, e da Orde  do 31 -10-9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bre a avaliación psicopedagóxica, no ditame debe aparecer a opinión dos pais en relación coa proposta de escolar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n caso de desconformidade poden reclam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Os pais non deben ter copia dos informes psicopedagóxicos. Tan só se lle debe trasladar só o necesario) </a:t>
            </a: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Instrución do 30-12-05. (Ver Avaliación Psicopedagóxic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441F-0CC2-451D-9ED1-EAAEE8ACE42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A1715A-07E5-4565-A33F-E934CDB127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9:34:47Z</dcterms:created>
  <dc:creator>-</dc:creator>
  <dc:description/>
  <dc:language>en-US</dc:language>
  <cp:lastModifiedBy>Educación</cp:lastModifiedBy>
  <dcterms:modified xsi:type="dcterms:W3CDTF">2009-10-28T09:20:32Z</dcterms:modified>
  <cp:revision>19</cp:revision>
  <dc:subject/>
  <dc:title>PREGUNTAS E RESPOSTAS</dc:title>
</cp:coreProperties>
</file>